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ABBB-E78A-4229-A5AD-7D0CB8364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C325-E8CD-478D-A925-85556BC47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9D98-69AA-401A-8F34-16B08BD1F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E242-0638-4FA3-BBE9-A38F95A70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2568-AA78-4F11-8970-43503742C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9780-B240-465E-9374-A768D841B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1E7F-87C0-47CF-80E9-1B31FDC3F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D4EF-EBC3-4F4E-B0AF-A15F9551D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887A-299E-4938-8F57-33A93CDAF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CA75-C40F-4B4D-8CAB-CC27F636D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0929-C093-4704-900C-A2D99971C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32A9-EE1E-4367-AF86-7DA8C7150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F09C2-960A-4986-8EDC-209C857ED8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rque te quiero mucho, quieres que te quiera más,  Te quiero más que tú me quieres. ¿Qué quieres, quieres más?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Cómo quieres que te quiera si (él/ella) que quiero que me quiera  no me quiere como quiero que me quier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6T15:11:12Z</dcterms:created>
  <dc:creator>Sulynn Peterson</dc:creator>
  <dc:description/>
  <dc:language>en-US</dc:language>
  <cp:lastModifiedBy>Sulynn Peterson</cp:lastModifiedBy>
  <dcterms:modified xsi:type="dcterms:W3CDTF">2011-03-16T15:34:46Z</dcterms:modified>
  <cp:revision>1</cp:revision>
  <dc:subject/>
  <dc:title>Porque te quiero mucho, quieres que te quiera más,  Te quiero más que tú me quieres. ¿Qué quieres, quieres más?  ¿Cómo quieres que te quiera si (él/ella) que quiero que me quiera  no me quiere como quiero que me quiera?</dc:title>
</cp:coreProperties>
</file>